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2D49F2-C688-47CF-8B96-8620B65D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egitimhane.com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egitimhane.com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egitimhane.com/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+mn-lt"/>
                <a:ea typeface="+mn-ea"/>
                <a:hlinkClick r:id="rId1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D98C99-BCDA-4CAF-B51B-4A781B21BAEF}" type="slidenum">
              <a:rPr b="0" lang="tr-T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+mn-lt"/>
                <a:ea typeface="+mn-ea"/>
                <a:hlinkClick r:id="rId1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B4CBF-D270-4BF5-BE8E-14498B97E5F8}" type="slidenum">
              <a:rPr b="0" lang="tr-T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+mn-lt"/>
                <a:ea typeface="+mn-ea"/>
                <a:hlinkClick r:id="rId1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B8ACB2-FB31-4C73-8CC3-94381117AF88}" type="slidenum">
              <a:rPr b="0" lang="tr-T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130-F897-42CB-9609-F21172F5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ECF-D5C2-46E3-A4E1-9DC7B52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5B7-0A84-40B5-B036-7A85ECAF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A8D-66F1-4F5E-8D11-541C582C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6E94-9720-49C4-B6C5-CCBA1182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8DB3-ADD3-4A54-B5C9-5BC52880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849-0E2D-4C13-BC1B-2C2AA8C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DE4-BF92-4680-AB70-9A4D560E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820-2E46-4CA1-AC2F-628B15F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AE9-55EF-431D-A79D-3DD7128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F8A-B98A-4C75-AA03-059C824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9CF-27E7-4335-843A-F574A4F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5F6-F73C-4FB3-987D-6ED25CC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249-9380-438F-A38E-0525D61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C67-8929-421E-925F-FEE86085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919C-B57B-42C3-9CD3-F00F732F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27D-4968-4978-8CF3-22D57837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E1B-12A5-4912-9AEF-4F96E038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DB2-7FD2-43E9-948A-462A1F6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B2B-E7D8-4A81-944C-F4C21D8B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311-941E-41CF-ABE3-5A788D1D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EB5-E436-449C-BE6D-E7439E9A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A5B-4BB2-44B6-A051-F3A606B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4E2-969A-4ED0-B6FF-2014375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Asıl başlık stili için tıklatın</a:t>
            </a:r>
            <a:endParaRPr b="0" lang="tr-T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0311D-F3A1-48BA-BFEC-7B2CE54B0BA0}" type="slidenum">
              <a:rPr b="0" lang="tr-T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tr-T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Asıl başlık stili için tıklatın</a:t>
            </a:r>
            <a:endParaRPr b="0" lang="tr-T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sıl metin stillerini düzenlemek için tıklatın</a:t>
            </a:r>
            <a:endParaRPr b="0" lang="tr-TR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kinci düzey</a:t>
            </a:r>
            <a:endParaRPr b="0" lang="tr-TR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Üçüncü düzey</a:t>
            </a:r>
            <a:endParaRPr b="0" lang="tr-TR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ördüncü düzey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eşinci düzey</a:t>
            </a:r>
            <a:endParaRPr b="0" lang="tr-T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2BB073-3482-40D3-AD0B-622C8BB69D92}" type="slidenum">
              <a:rPr b="0" lang="tr-T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gitimhane.com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tkinlikhane.com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gitimhane.com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Dikdörtgen"/>
          <p:cNvSpPr/>
          <p:nvPr/>
        </p:nvSpPr>
        <p:spPr>
          <a:xfrm>
            <a:off x="1619640" y="2637000"/>
            <a:ext cx="604836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8000" spc="-1" strike="noStrike">
                <a:solidFill>
                  <a:srgbClr val="ff9f5c"/>
                </a:solidFill>
                <a:latin typeface="Calibri"/>
              </a:rPr>
              <a:t>ONA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tr-TR" sz="8000" spc="-1" strike="noStrike">
                <a:solidFill>
                  <a:srgbClr val="ff9f5c"/>
                </a:solidFill>
                <a:latin typeface="Calibri"/>
              </a:rPr>
              <a:t>RİTMİK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tr-TR" sz="8000" spc="-1" strike="noStrike">
                <a:solidFill>
                  <a:srgbClr val="ff9f5c"/>
                </a:solidFill>
                <a:latin typeface="Calibri"/>
              </a:rPr>
              <a:t>SAYM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HP\AppData\Local\Microsoft\Windows\Temporary Internet Files\Content.IE5\UTLP2DYM\10-Number-Transparent[1]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60000" y="101520"/>
            <a:ext cx="3240000" cy="2594880"/>
          </a:xfrm>
          <a:prstGeom prst="rect">
            <a:avLst/>
          </a:prstGeom>
          <a:ln w="0">
            <a:noFill/>
          </a:ln>
        </p:spPr>
      </p:pic>
      <p:sp>
        <p:nvSpPr>
          <p:cNvPr id="90" name="5 Dikdörtgen"/>
          <p:cNvSpPr/>
          <p:nvPr/>
        </p:nvSpPr>
        <p:spPr>
          <a:xfrm>
            <a:off x="3466440" y="6309360"/>
            <a:ext cx="2257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500" spc="-1" strike="noStrike">
                <a:solidFill>
                  <a:srgbClr val="ff9f5c"/>
                </a:solidFill>
                <a:latin typeface="Calibri"/>
              </a:rPr>
              <a:t>Deniz ÖZPIN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tr-TR" sz="1500" spc="-1" strike="noStrike">
                <a:solidFill>
                  <a:srgbClr val="ff9f5c"/>
                </a:solidFill>
                <a:latin typeface="Calibri"/>
              </a:rPr>
              <a:t>1-A Sınıf Öğretme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ikdörtgen 1"/>
          <p:cNvSpPr/>
          <p:nvPr/>
        </p:nvSpPr>
        <p:spPr>
          <a:xfrm>
            <a:off x="6593040" y="250920"/>
            <a:ext cx="2610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 u="sng">
                <a:solidFill>
                  <a:srgbClr val="0000ff"/>
                </a:solidFill>
                <a:uFillTx/>
                <a:latin typeface="Comic Sans MS"/>
                <a:ea typeface="Calibri"/>
                <a:hlinkClick r:id="rId3"/>
              </a:rPr>
              <a:t>www.etkinlikha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Dikdörtgen">
            <a:hlinkClick r:id="rId1"/>
          </p:cNvPr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Dikdörtgen"/>
          <p:cNvSpPr/>
          <p:nvPr/>
        </p:nvSpPr>
        <p:spPr>
          <a:xfrm>
            <a:off x="0" y="5486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Dikdörtgen"/>
          <p:cNvSpPr/>
          <p:nvPr/>
        </p:nvSpPr>
        <p:spPr>
          <a:xfrm>
            <a:off x="1763640" y="5486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2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Dikdörtgen"/>
          <p:cNvSpPr/>
          <p:nvPr/>
        </p:nvSpPr>
        <p:spPr>
          <a:xfrm>
            <a:off x="3456360" y="5486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3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Dikdörtgen"/>
          <p:cNvSpPr/>
          <p:nvPr/>
        </p:nvSpPr>
        <p:spPr>
          <a:xfrm>
            <a:off x="5112720" y="5486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4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Dikdörtgen"/>
          <p:cNvSpPr/>
          <p:nvPr/>
        </p:nvSpPr>
        <p:spPr>
          <a:xfrm>
            <a:off x="6768720" y="5486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5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Dikdörtgen"/>
          <p:cNvSpPr/>
          <p:nvPr/>
        </p:nvSpPr>
        <p:spPr>
          <a:xfrm>
            <a:off x="35640" y="22298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6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 Dikdörtgen"/>
          <p:cNvSpPr/>
          <p:nvPr/>
        </p:nvSpPr>
        <p:spPr>
          <a:xfrm>
            <a:off x="1763640" y="22298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7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Dikdörtgen"/>
          <p:cNvSpPr/>
          <p:nvPr/>
        </p:nvSpPr>
        <p:spPr>
          <a:xfrm>
            <a:off x="3528360" y="22298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8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1 Dikdörtgen"/>
          <p:cNvSpPr/>
          <p:nvPr/>
        </p:nvSpPr>
        <p:spPr>
          <a:xfrm>
            <a:off x="5148000" y="2229840"/>
            <a:ext cx="17632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9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2 Dikdörtgen"/>
          <p:cNvSpPr/>
          <p:nvPr/>
        </p:nvSpPr>
        <p:spPr>
          <a:xfrm>
            <a:off x="6768720" y="2205000"/>
            <a:ext cx="2374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10000" spc="-1" strike="noStrike">
                <a:solidFill>
                  <a:srgbClr val="ff9f5c"/>
                </a:solidFill>
                <a:latin typeface="Calibri"/>
              </a:rPr>
              <a:t>10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Users\HP\AppData\Local\Microsoft\Windows\Temporary Internet Files\Content.IE5\UTLP2DYM\smiley_PNG27[1].png"/>
          <p:cNvPicPr/>
          <p:nvPr/>
        </p:nvPicPr>
        <p:blipFill>
          <a:blip r:embed="rId1"/>
          <a:stretch/>
        </p:blipFill>
        <p:spPr>
          <a:xfrm>
            <a:off x="2339640" y="3969360"/>
            <a:ext cx="3465360" cy="288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6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Dikdörtgen"/>
          <p:cNvSpPr/>
          <p:nvPr/>
        </p:nvSpPr>
        <p:spPr>
          <a:xfrm>
            <a:off x="1259640" y="1917000"/>
            <a:ext cx="6336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tr-TR" sz="30000" spc="-1" strike="noStrike">
                <a:solidFill>
                  <a:srgbClr val="ff9f5c"/>
                </a:solidFill>
                <a:latin typeface="Calibri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is Teması">
  <a:themeElements>
    <a:clrScheme name="Ofis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is Teması">
  <a:themeElements>
    <a:clrScheme name="Ofis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51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5T20:36:59Z</dcterms:created>
  <dc:creator>HP</dc:creator>
  <dc:description/>
  <dc:language>en-US</dc:language>
  <cp:lastModifiedBy>bünyamin çoğaltur</cp:lastModifiedBy>
  <dcterms:modified xsi:type="dcterms:W3CDTF">2022-07-13T16:42:42Z</dcterms:modified>
  <cp:revision>5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Ekran Gösterisi (4:3)</vt:lpwstr>
  </property>
  <property fmtid="{D5CDD505-2E9C-101B-9397-08002B2CF9AE}" pid="4" name="Slides">
    <vt:r8>12</vt:r8>
  </property>
</Properties>
</file>