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49CF-FB43-468B-B145-C32067A9133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7737-32C4-40C9-8606-953C066D4B1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E68-6345-4F42-A280-AFB537A96B2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98DC-54FA-47BD-9DD2-97396B9A52D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B8FE-5635-4822-A860-8ED46EE8596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 u="sng">
                <a:solidFill>
                  <a:srgbClr val="000000"/>
                </a:solidFill>
                <a:uFillTx/>
                <a:latin typeface="Calibri"/>
              </a:rPr>
              <a:t>www.egitimhan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ayt Numarası Yer Tutucus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6B2D-C0E7-4457-B4AC-5BB1813E30C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19E-7494-4F5F-B539-EB7079FE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340-6872-4DE4-899E-3EA9B49C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A40A-DB11-4DA6-A60B-FD129C12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B82-50D1-473E-A87C-1779A964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3D4E-D5D1-4096-8BDF-0878058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CC05-31D2-49EC-A7A6-4E9D8CE0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75A8-4456-43A9-B268-EEA988E2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CFE2-2E54-4EC0-841D-A5D82C9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8BFD-7ED2-48C8-8C91-53EFD348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C822-7C69-4904-A48F-8021535E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7D89-CFF8-44D0-90BA-B1E3A220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D1B1-4624-4CCC-AB2F-B19755A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227A-9214-4F60-B8FF-6102DE5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42C7-D881-4ADA-9043-FB5D21B3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8200-4BDA-4316-AD8A-E18159A0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917-D3F1-4A3C-AA22-2C0E6EF6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CC2A-54A7-4C6B-9A43-ED2ACA19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A1E9F-500D-4A89-9232-02307825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164D2-66A8-441A-ABFF-B2FDB63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CA4CC-B88F-4D9C-BEEB-1005CF4C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41DC9E-93E7-4113-9489-5F256EF4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F80F3F-7159-4A68-9C4B-3419225C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93B-BF76-454F-B391-69A3BE2E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BCCC0-1F6B-4C2C-A891-FDB087CE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21A8D-5C3E-4911-AEDE-AB8651C2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5DD45-D20A-424D-9B60-8FA6F63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E09F5-140B-4B83-A593-A040128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2C86B-1E3E-4A76-97DA-EF8A0C47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F24FB-DA6C-4546-B4A8-631B7081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588F0-E4BC-495E-8107-BCCA136E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05CC4-9762-4488-800D-88A21F70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DCDD-AA05-4C79-B24E-D93C3987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46506-12A5-438A-9946-07C516DE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CC81-35FF-41DD-AACA-C3DEFCC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3D72-FE1A-4F05-91C3-723B8DD0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92E9B-50CE-4520-9EB2-F0EE9748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2FDF-D96E-4460-A11A-EE37E3B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1315F-A6AF-4B07-874A-093D098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B629-B4FD-4EA1-AFF4-FF0BFC9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242D8-F818-4FC3-8083-5002148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15656-6807-40E6-A6FE-6AA230EC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8B666-22D0-4B0B-AC41-333C0150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AED7-8D1A-401D-8DBD-02809488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BEE65-41DA-4038-8A02-B2C5812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32E-E0F6-4E71-BDCC-43BCF0D2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A7E21A-151B-473A-9E7B-89A863E9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699F5F-C8FB-4420-B105-EBE506BD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E876E-5520-4CC2-93EA-4142637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4E1A2F-7628-4730-807E-0463C83E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D9422-A6AA-4EDE-8905-6B40B623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55C598-7DAD-4A04-A84D-44834C8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E11A6-13BC-48F1-9BFB-9927AA18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A0501-2A8A-4FBD-91E6-D722F6B7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4A6F8-D05F-40A1-ADCC-82BB3BA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8E8A0-D73D-4AAB-90C0-97EB4D8C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0E63-6249-4F80-804A-1585B1B4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4D911-FC02-403A-B7B4-5568FE0C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0D1FA-F1E7-4934-85CC-1EFC37AF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9AD7F-4043-446E-ADCE-12A51733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ADB31-553A-48D1-A8D4-A0BD80A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A05A1-CCAC-402A-B098-B36472C6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16DDB-8754-4C28-9EF0-B4B42E73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B547E6-E64E-47A1-858D-8B8C8A6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E8457-4045-42EA-8B24-6F2A23D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1D043D-C30D-4DDD-8361-0B9A397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69270-C75B-41DA-88BC-569B276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B83-206F-488B-9E42-BACB738A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ACAB7-42B7-4FE2-B807-6B99D800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9CD1C-1470-40B0-B514-E8F400C6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FDD87-AC54-4E8F-91A6-64AB39FA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BCBDC-2DE8-498F-8C8C-B360F0C8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172F0-DFF3-49CC-AE87-DD989530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F9FCC-BCFE-41DC-8D7A-333ADF12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1E588-3D78-40F0-9A8F-8774B0B4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E1915-BF5B-4DDC-A32B-47BC2F4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549D69-7C82-4745-BA05-A1E3DF20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8D1915-C34A-4CF7-BBE6-BB3483CC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0F2-F180-4096-9A5B-B3533F41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AB733-A601-49A2-80B7-A7DE581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F6BFC-7FEB-4FB2-AE80-A61C2DC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CD58A-EEAC-4C36-BD40-CB51A1F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8C6F0-E855-4C01-A910-DEAC8D59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BFD19-DFB8-478C-8C1C-9EAB934D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99A-5330-4A95-9808-1B820DC1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Düz Bağlayıcı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Düz Bağlayıcı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Düz Bağlayıcı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Dikdörtgen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Düz Bağlayıcı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Oval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689B-7E75-4D5D-8FBB-801E91926320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Dikdörtgen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Dikdörtgen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Dikdörtgen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Dikdörtgen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Düz Bağlayıcı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Düz Bağlayıcı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Düz Bağlayıcı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Düz Bağlayıcı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Düz Bağlayıcı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Düz Bağlayıcı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Dikdörtgen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Oval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Oval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Oval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Oval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Oval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72F6-BD25-486E-A43F-1A67082AB2D7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Düz Bağlayıcı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Düz Bağlayıcı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Düz Bağlayıcı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Dikdörtgen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Düz Bağlayıcı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Oval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31FD-A62C-4D56-B136-7574EA56C8EE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Dikdörtgen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Dikdörtgen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Dikdörtgen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Dikdörtgen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Düz Bağlayıcı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Düz Bağlayıcı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Düz Bağlayıcı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Düz Bağlayıcı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Düz Bağlayıcı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Dikdörtgen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Oval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Oval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Oval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Oval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Oval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Düz Bağlayıcı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98F4-69E2-48D2-B8B7-8CB0749FC388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Düz Bağlayıcı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Düz Bağlayıcı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Düz Bağlayıcı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Dikdörtgen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Düz Bağlayıcı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Oval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3FD-2673-4D2E-BC1F-BADBF178F42B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Düz Bağlayıcı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Düz Bağlayıcı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Düz Bağlayıcı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Düz Bağlayıcı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Dikdörtgen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Düz Bağlayıcı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Oval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EC46-B419-44FF-BDB4-6AE12DEF9A80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Düz Bağlayıcı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Oval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Düz Bağlayıcı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Dikdörtgen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Düz Bağlayıcı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Düz Bağlayıcı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Düz Bağlayıcı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7C33-0B76-492E-B51C-281E8CA89775}" type="slidenum">
              <a:rPr b="1" lang="tr-TR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3 Dikdörtgen" descr=""/>
          <p:cNvPicPr/>
          <p:nvPr/>
        </p:nvPicPr>
        <p:blipFill>
          <a:blip r:embed="rId1"/>
          <a:stretch/>
        </p:blipFill>
        <p:spPr>
          <a:xfrm>
            <a:off x="1974960" y="42840"/>
            <a:ext cx="5261040" cy="4400640"/>
          </a:xfrm>
          <a:prstGeom prst="rect">
            <a:avLst/>
          </a:prstGeom>
          <a:ln w="0">
            <a:noFill/>
          </a:ln>
        </p:spPr>
      </p:pic>
      <p:pic>
        <p:nvPicPr>
          <p:cNvPr id="359" name="4 Dikdörtgen" descr=""/>
          <p:cNvPicPr/>
          <p:nvPr/>
        </p:nvPicPr>
        <p:blipFill>
          <a:blip r:embed="rId2"/>
          <a:stretch/>
        </p:blipFill>
        <p:spPr>
          <a:xfrm>
            <a:off x="3346560" y="6095880"/>
            <a:ext cx="2657520" cy="858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C:\Users\HP\AppData\Local\Microsoft\Windows\Temporary Internet Files\Content.IE5\MTWAU4I8\37001_EXAM[1].png"/>
          <p:cNvPicPr/>
          <p:nvPr/>
        </p:nvPicPr>
        <p:blipFill>
          <a:blip r:embed="rId3"/>
          <a:stretch/>
        </p:blipFill>
        <p:spPr>
          <a:xfrm>
            <a:off x="6012000" y="3357720"/>
            <a:ext cx="2952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94" name="3 Oval"/>
          <p:cNvSpPr/>
          <p:nvPr/>
        </p:nvSpPr>
        <p:spPr>
          <a:xfrm>
            <a:off x="6300720" y="5302080"/>
            <a:ext cx="719280" cy="7192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7380360" y="5013360"/>
            <a:ext cx="1176120" cy="1123920"/>
          </a:xfrm>
          <a:prstGeom prst="rect">
            <a:avLst/>
          </a:prstGeom>
          <a:ln w="0">
            <a:noFill/>
          </a:ln>
        </p:spPr>
      </p:pic>
      <p:pic>
        <p:nvPicPr>
          <p:cNvPr id="396" name="6 Dikdörtgen" descr=""/>
          <p:cNvPicPr/>
          <p:nvPr/>
        </p:nvPicPr>
        <p:blipFill>
          <a:blip r:embed="rId3"/>
          <a:stretch/>
        </p:blipFill>
        <p:spPr>
          <a:xfrm>
            <a:off x="865080" y="907920"/>
            <a:ext cx="82789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5 Dikdörtgen" descr=""/>
          <p:cNvPicPr/>
          <p:nvPr/>
        </p:nvPicPr>
        <p:blipFill>
          <a:blip r:embed="rId1"/>
          <a:stretch/>
        </p:blipFill>
        <p:spPr>
          <a:xfrm>
            <a:off x="182520" y="847800"/>
            <a:ext cx="1146240" cy="925560"/>
          </a:xfrm>
          <a:prstGeom prst="rect">
            <a:avLst/>
          </a:prstGeom>
          <a:ln w="0">
            <a:noFill/>
          </a:ln>
        </p:spPr>
      </p:pic>
      <p:sp>
        <p:nvSpPr>
          <p:cNvPr id="398" name="3 Oval"/>
          <p:cNvSpPr/>
          <p:nvPr/>
        </p:nvSpPr>
        <p:spPr>
          <a:xfrm>
            <a:off x="3924360" y="4581360"/>
            <a:ext cx="647640" cy="6480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54" b="0"/>
          <a:stretch/>
        </p:blipFill>
        <p:spPr>
          <a:xfrm>
            <a:off x="5148360" y="4437000"/>
            <a:ext cx="934920" cy="893880"/>
          </a:xfrm>
          <a:prstGeom prst="rect">
            <a:avLst/>
          </a:prstGeom>
          <a:ln w="0">
            <a:noFill/>
          </a:ln>
        </p:spPr>
      </p:pic>
      <p:pic>
        <p:nvPicPr>
          <p:cNvPr id="400" name="6 Dikdörtgen" descr=""/>
          <p:cNvPicPr/>
          <p:nvPr/>
        </p:nvPicPr>
        <p:blipFill>
          <a:blip r:embed="rId3"/>
          <a:stretch/>
        </p:blipFill>
        <p:spPr>
          <a:xfrm>
            <a:off x="1262160" y="762120"/>
            <a:ext cx="773568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1 Dikdörtgen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24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pic>
        <p:nvPicPr>
          <p:cNvPr id="362" name="6 Dikdörtgen" descr=""/>
          <p:cNvPicPr/>
          <p:nvPr/>
        </p:nvPicPr>
        <p:blipFill>
          <a:blip r:embed="rId2"/>
          <a:stretch/>
        </p:blipFill>
        <p:spPr>
          <a:xfrm>
            <a:off x="969840" y="695160"/>
            <a:ext cx="8174160" cy="5997600"/>
          </a:xfrm>
          <a:prstGeom prst="rect">
            <a:avLst/>
          </a:prstGeom>
          <a:ln w="0">
            <a:noFill/>
          </a:ln>
        </p:spPr>
      </p:pic>
      <p:sp>
        <p:nvSpPr>
          <p:cNvPr id="363" name="7 Oval"/>
          <p:cNvSpPr/>
          <p:nvPr/>
        </p:nvSpPr>
        <p:spPr>
          <a:xfrm>
            <a:off x="900000" y="435600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C:\Users\HP\AppData\Local\Microsoft\Windows\Temporary Internet Files\Content.IE5\PMKKDG7N\True-And-False-PNG-Photo[1].png"/>
          <p:cNvPicPr/>
          <p:nvPr/>
        </p:nvPicPr>
        <p:blipFill>
          <a:blip r:embed="rId3"/>
          <a:srcRect l="0" t="0" r="52948" b="0"/>
          <a:stretch/>
        </p:blipFill>
        <p:spPr>
          <a:xfrm>
            <a:off x="4068720" y="3924360"/>
            <a:ext cx="1440000" cy="13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66" name="10 Oval"/>
          <p:cNvSpPr/>
          <p:nvPr/>
        </p:nvSpPr>
        <p:spPr>
          <a:xfrm>
            <a:off x="900000" y="313992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6588000" y="292428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368" name="6 Dikdörtgen" descr=""/>
          <p:cNvPicPr/>
          <p:nvPr/>
        </p:nvPicPr>
        <p:blipFill>
          <a:blip r:embed="rId3"/>
          <a:stretch/>
        </p:blipFill>
        <p:spPr>
          <a:xfrm>
            <a:off x="969840" y="981000"/>
            <a:ext cx="8174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70" name="6 Oval"/>
          <p:cNvSpPr/>
          <p:nvPr/>
        </p:nvSpPr>
        <p:spPr>
          <a:xfrm>
            <a:off x="971640" y="3933720"/>
            <a:ext cx="71892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3492360" y="3500280"/>
            <a:ext cx="1440000" cy="1376640"/>
          </a:xfrm>
          <a:prstGeom prst="rect">
            <a:avLst/>
          </a:prstGeom>
          <a:ln w="0">
            <a:noFill/>
          </a:ln>
        </p:spPr>
      </p:pic>
      <p:pic>
        <p:nvPicPr>
          <p:cNvPr id="372" name="8 Dikdörtgen" descr=""/>
          <p:cNvPicPr/>
          <p:nvPr/>
        </p:nvPicPr>
        <p:blipFill>
          <a:blip r:embed="rId3"/>
          <a:stretch/>
        </p:blipFill>
        <p:spPr>
          <a:xfrm>
            <a:off x="969840" y="981000"/>
            <a:ext cx="8174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74" name="8 Oval"/>
          <p:cNvSpPr/>
          <p:nvPr/>
        </p:nvSpPr>
        <p:spPr>
          <a:xfrm>
            <a:off x="900000" y="393372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5364000" y="3573360"/>
            <a:ext cx="1440000" cy="1376640"/>
          </a:xfrm>
          <a:prstGeom prst="rect">
            <a:avLst/>
          </a:prstGeom>
          <a:ln w="0">
            <a:noFill/>
          </a:ln>
        </p:spPr>
      </p:pic>
      <p:pic>
        <p:nvPicPr>
          <p:cNvPr id="376" name="6 Dikdörtgen" descr=""/>
          <p:cNvPicPr/>
          <p:nvPr/>
        </p:nvPicPr>
        <p:blipFill>
          <a:blip r:embed="rId3"/>
          <a:stretch/>
        </p:blipFill>
        <p:spPr>
          <a:xfrm>
            <a:off x="969840" y="981000"/>
            <a:ext cx="8174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78" name="3 Oval"/>
          <p:cNvSpPr/>
          <p:nvPr/>
        </p:nvSpPr>
        <p:spPr>
          <a:xfrm>
            <a:off x="900000" y="393372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7704000" y="371628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380" name="6 Dikdörtgen" descr=""/>
          <p:cNvPicPr/>
          <p:nvPr/>
        </p:nvPicPr>
        <p:blipFill>
          <a:blip r:embed="rId3"/>
          <a:stretch/>
        </p:blipFill>
        <p:spPr>
          <a:xfrm>
            <a:off x="969840" y="907920"/>
            <a:ext cx="81741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82" name="3 Oval"/>
          <p:cNvSpPr/>
          <p:nvPr/>
        </p:nvSpPr>
        <p:spPr>
          <a:xfrm>
            <a:off x="900000" y="414972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5076720" y="3860640"/>
            <a:ext cx="1440000" cy="1376640"/>
          </a:xfrm>
          <a:prstGeom prst="rect">
            <a:avLst/>
          </a:prstGeom>
          <a:ln w="0">
            <a:noFill/>
          </a:ln>
        </p:spPr>
      </p:pic>
      <p:pic>
        <p:nvPicPr>
          <p:cNvPr id="384" name="6 Dikdörtgen" descr=""/>
          <p:cNvPicPr/>
          <p:nvPr/>
        </p:nvPicPr>
        <p:blipFill>
          <a:blip r:embed="rId3"/>
          <a:stretch/>
        </p:blipFill>
        <p:spPr>
          <a:xfrm>
            <a:off x="969840" y="981000"/>
            <a:ext cx="817416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86" name="3 Oval"/>
          <p:cNvSpPr/>
          <p:nvPr/>
        </p:nvSpPr>
        <p:spPr>
          <a:xfrm>
            <a:off x="900000" y="458136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3995640" y="501336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388" name="6 Dikdörtgen" descr=""/>
          <p:cNvPicPr/>
          <p:nvPr/>
        </p:nvPicPr>
        <p:blipFill>
          <a:blip r:embed="rId3"/>
          <a:stretch/>
        </p:blipFill>
        <p:spPr>
          <a:xfrm>
            <a:off x="865080" y="907920"/>
            <a:ext cx="827892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5 Dikdörtgen" descr=""/>
          <p:cNvPicPr/>
          <p:nvPr/>
        </p:nvPicPr>
        <p:blipFill>
          <a:blip r:embed="rId1"/>
          <a:stretch/>
        </p:blipFill>
        <p:spPr>
          <a:xfrm>
            <a:off x="152280" y="847800"/>
            <a:ext cx="762120" cy="925560"/>
          </a:xfrm>
          <a:prstGeom prst="rect">
            <a:avLst/>
          </a:prstGeom>
          <a:ln w="0">
            <a:noFill/>
          </a:ln>
        </p:spPr>
      </p:pic>
      <p:sp>
        <p:nvSpPr>
          <p:cNvPr id="390" name="3 Oval"/>
          <p:cNvSpPr/>
          <p:nvPr/>
        </p:nvSpPr>
        <p:spPr>
          <a:xfrm>
            <a:off x="826920" y="2349360"/>
            <a:ext cx="719280" cy="7207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4" descr="C:\Users\HP\AppData\Local\Microsoft\Windows\Temporary Internet Files\Content.IE5\PMKKDG7N\True-And-False-PNG-Photo[1].png"/>
          <p:cNvPicPr/>
          <p:nvPr/>
        </p:nvPicPr>
        <p:blipFill>
          <a:blip r:embed="rId2"/>
          <a:srcRect l="0" t="0" r="52948" b="0"/>
          <a:stretch/>
        </p:blipFill>
        <p:spPr>
          <a:xfrm>
            <a:off x="3132000" y="2781360"/>
            <a:ext cx="1440000" cy="1376280"/>
          </a:xfrm>
          <a:prstGeom prst="rect">
            <a:avLst/>
          </a:prstGeom>
          <a:ln w="0">
            <a:noFill/>
          </a:ln>
        </p:spPr>
      </p:pic>
      <p:pic>
        <p:nvPicPr>
          <p:cNvPr id="392" name="6 Dikdörtgen" descr=""/>
          <p:cNvPicPr/>
          <p:nvPr/>
        </p:nvPicPr>
        <p:blipFill>
          <a:blip r:embed="rId3"/>
          <a:stretch/>
        </p:blipFill>
        <p:spPr>
          <a:xfrm>
            <a:off x="865080" y="907920"/>
            <a:ext cx="827892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7T19:50:50Z</dcterms:created>
  <dc:creator>HP</dc:creator>
  <dc:description/>
  <dc:language>en-US</dc:language>
  <cp:lastModifiedBy>bünyamin çoğaltur</cp:lastModifiedBy>
  <dcterms:modified xsi:type="dcterms:W3CDTF">2023-01-20T19:34:12Z</dcterms:modified>
  <cp:revision>27</cp:revision>
  <dc:subject/>
  <dc:title>Slayt 1</dc:title>
</cp:coreProperties>
</file>